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2F05-ABF3-41F1-ABBA-3DED7DCE2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98D-B2C2-436D-9D89-BE73EA04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C13-6C94-4DA1-92E7-772D4C83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9E2-204C-433F-93A2-785DCFB9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E25-D68C-4F68-9DE7-3A337543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9B15-B6EB-46D3-B9A8-A42932C0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557-5CF9-49AC-BCE3-5A482946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3F5-20AE-4D39-8322-E8115363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45E-CE70-4A25-AD88-A4A7C7C1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9572-ED53-4810-892D-EDF4668E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E36-7727-455E-9160-D02931D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2CE9-4E47-40E1-8420-C892D66C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A9FF-0B91-4709-9A8F-3CF917E47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s, oils, waxes, sterols,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Foo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, mayo, animal fats, seeds, oils, nut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8483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 of amino acid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, H, O, N &amp; 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Impor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&amp; repai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up 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, skin, spider we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, keratin, enzymes, globul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in Foo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, fish, eggs, nuts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46748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369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: carbon, hydrogen, oxygen, nitrogen, phosphorus (C, H, O, N, 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 of repeating units of sugar, phospate &amp; nitrogen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Impor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cellular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the making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cleic Aci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(nucleic acids are present in almost all foo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8001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9c4"/>
                </a:solidFill>
                <a:latin typeface="Arial"/>
              </a:rPr>
              <a:t>What are organic compou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unds that contain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9c4"/>
                </a:solidFill>
                <a:latin typeface="Arial"/>
              </a:rPr>
              <a:t>What group(s) of substances are considered energy sour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s and lip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9c4"/>
                </a:solidFill>
                <a:latin typeface="Arial"/>
              </a:rPr>
              <a:t>How are lipids &amp; carbohydrates similar?  How are they diffe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both energy sources but carbohydrates provide quick energy and lipids are a long term energy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209c4"/>
                </a:solidFill>
                <a:latin typeface="Arial"/>
              </a:rPr>
              <a:t>Name 2 types of nucleic acids.  What is their importance in the ce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&amp;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used to make protein, store genetic information, and control cell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hydrate -  C, H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 - C, H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 - C, H, O,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- C, H, O, N,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drocarbon has a central chain of carbon atoms with hydrogen atoms attached to the carb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 chain or ring bonded to O or H a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ntain 2 atoms of Hydrogen for e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ntain C, H, &amp; 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e group, carboxylic acid, &amp; R side ch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 - #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k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pids - the long hydrocarbon has many more 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cose and fruct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rose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and a dipept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Impor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quick source of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so used as structural building blocks ex: cellulose in plant cell w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produc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reactions cause water to be removed, therefore, the molecule is dehydrated or water is “condensed” from the 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Molecul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2 -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ysi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s (glucose, sucrose, fruct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ches (cellulose, 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hydrate Food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ds, pasta, potatoes, rice, cereal, frui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620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92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Characteristic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 of carbon, hydrogen and oxygen atoms (contain more hydrogen atoms than carbohydrates 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oluble in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fat (animal) - sing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fat (plant oils) - double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pid Impor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term energ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in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ake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form part of cell membr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17:50Z</dcterms:created>
  <dc:creator>NHS NPS</dc:creator>
  <dc:description/>
  <dc:language>en-US</dc:language>
  <cp:lastModifiedBy>NHS NPS</cp:lastModifiedBy>
  <dcterms:modified xsi:type="dcterms:W3CDTF">2013-11-22T17:13:14Z</dcterms:modified>
  <cp:revision>10</cp:revision>
  <dc:subject/>
  <dc:title>Organic Compounds</dc:title>
</cp:coreProperties>
</file>